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935-65B7-4959-8536-F2F0A883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C82-82A6-4449-AE33-691E412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DF2-9ADD-43F8-8CDE-78289C76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A2D-A055-4544-89EF-C7FE3FB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DF8-CE34-4EFC-BCFF-3C710D05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400-79A8-4E84-8C81-AD354D9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9A3-A70F-42FD-8C22-FE47288D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8B2-556E-48F1-A233-6264CE9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EFE-C62C-4450-8A4A-E084577C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009-8545-406E-B9DA-F6C5DD7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7DD-71AB-4E6C-89AB-7B6DAF0E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FF8-6A84-49AD-BAF2-32622C2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012-FE93-4864-B4EC-4FE867BC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560" y="1678320"/>
            <a:ext cx="837828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2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чудно е Божието Слово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 удива четем ние там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чудното дело Христово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дар изкупителен нам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4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31840" y="-579600"/>
            <a:ext cx="96998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" y="-671400"/>
            <a:ext cx="9145440" cy="8381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2. Елате при този Спасител,                                                                 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вий скръбни и страдни ду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На радостна вест е носител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и нежно Той знай да те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04920" y="-579600"/>
            <a:ext cx="98456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0240"/>
            <a:ext cx="9150480" cy="69188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3. Прибежище такова ням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нийде по целий свят за н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 гледайте земна измам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о чуйте спасителен гл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04920" y="-1189080"/>
            <a:ext cx="9845640" cy="9236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8:55:20Z</dcterms:created>
  <dc:creator>TrifonTrifonow</dc:creator>
  <dc:description/>
  <dc:language>en-US</dc:language>
  <cp:lastModifiedBy>TrifonTrifonow</cp:lastModifiedBy>
  <dcterms:modified xsi:type="dcterms:W3CDTF">2005-11-21T12:02:30Z</dcterms:modified>
  <cp:revision>10</cp:revision>
  <dc:subject/>
  <dc:title>Slide 1</dc:title>
</cp:coreProperties>
</file>